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7574F-A522-41AC-B82E-35ACA465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71EA1-8229-4275-8DE8-8D4F9C8A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17BFB-36B3-4E64-8200-135BE363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6E926-48FE-41BF-A5F9-FEDD0E98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195D-6261-48F9-ABDD-2289FB90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F794-1E0B-43D0-9DED-D27ADA45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E5C7-E61F-48E1-B7C1-9A353291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8CF9-F0EE-46A6-9806-480F5321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3050-AC08-4D2A-BE8C-0C054E3B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088B-F860-4694-8F52-487D7C90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EBCF-935F-415D-8DFE-041666B1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FD26C-814E-4BB2-98F8-2BFB49F8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2CE3-8F06-4E79-8D13-6D8B155C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FDF6-8ED4-4A2A-8620-0AA62A50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7F28-AF5F-449D-B857-115BFCEE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99BE-2C30-4981-977F-9881CA58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5236-45F1-4FC1-98B1-4607FD91F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560B2-FE7E-467C-8F0F-B149A9A8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B85D3-DAF9-4ADF-84F8-C92BC0B2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A80FD-DAB3-4072-9CCA-AFAD4E1A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48199-DC55-4757-A290-04A699A8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11864-EE30-4AB1-A5DB-92C5E37F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10BA5-3999-40E8-9E43-4AD19AA7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32AB6-35B5-44B0-97C3-DC98F727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4B8C-E802-4EFF-A296-7F0D6610D4C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9D97-DE20-42E6-8D75-0F76F87B93E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1613880"/>
            <a:ext cx="8928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3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87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Господа Христа благодатт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любовта на Отц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общението на Дух Свят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е с всички нас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с нас всички! Ами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10T10:34:19Z</dcterms:modified>
  <cp:revision>47</cp:revision>
  <dc:subject/>
  <dc:title>Slide 1</dc:title>
</cp:coreProperties>
</file>